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D4C-B1A3-43EB-8A1E-B9117203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A92-D519-4726-8565-3AE41131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EF1-B8CD-4A9D-A939-95862853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DA4-0039-4897-B3F6-F328888B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626-DB7C-4242-B007-4402A342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499-E939-4097-88A6-3A874B8C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482-E207-4C12-B31F-F9D51703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4BA-EEFF-4168-9EB8-E63C0FEC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651-F7C2-4239-8A2E-81166ED8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AD2-6E0E-4232-873C-507C7115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EFF-9EE3-4FB6-A39A-8B21B8BC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FAD-C8D0-4C17-BF5E-9068893A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621B-9A9B-4A15-BFDD-A3F9C74D50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2/zelensky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2/u731_2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и свойства ар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ароматических углеводор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ыми природными источниками аренов являются каменный уголь и нефть. При коксовании каменного угля образуется каменноугольная смола, из которой выделяют бензол, толуол, ксилолы, нафталин и многие другие органические соедин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роматизация неф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дегидроциклизация (дегидрирование и циклизация) алканов в присутствии катализатор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дегидрирование циклоалкан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килирование бензо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алогеналканами или алкенами в присутствии безводного хлорида алюми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дегидрировании этилбензола образуется производное бензола с непредельной боковой цепью – винилбензол (стирол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CН=С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сходное вещество для получения ценного полимер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истиро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римеризация алки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д активированным углем (реакци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елинск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и получения аренов указывают на взаимосвязь между различными группами углеводородов и на возможность их превращения друг в дру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химическим свойства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ены отличаются от предельных и непредельных углеводородов. Это объясняется особенностями строения бензольного кольца. Делокализация шест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лектронов в циклической системе понижает энергию молекулы, что обусловливает повышенную устойчивость (ароматичность) бензола и его гомологов. Поэтому для аренов наиболее характерны реакции, идущие с сохранением ароматической системы, а именно,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акции замещ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томов водорода, связанных с циклом. Другие реакции (присоединение, окисление), в которых участвуют делокализованные углерод-углеродные связи бензольного кольца и нарушается его ароматичность, идут с труд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кции замещ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акции замещения в бензольном коль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)  Галогенировани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щение атома водорода в бензольном кольце на галоген происходитв присутствии катализаторов AlCl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AlB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FeCl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т.п. 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ислот Льюис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) Нитрование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нзол реагирует с нитрующей смесью (смесью концентрированныхазотной и серной кислот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3)  Алкилировани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щение атома водорода в бензольном кольце на алкильную группу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килир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происходит под действием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килгалогенид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реакция Фриделя-Крафтса) ил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ке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присутствии катализаторов AlCl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AlB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FeCl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кислот Льюис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мещение в алкилбензолах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мологи бензола (алкилбензолы) более активно вступают в реакции замещения по сравнению с бензолом. Например, при нитровании толуол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ожет происходить замещение не одного, а трех атомов водорода с образованием 2,4,6-тринитротолуо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ярко проявля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ное влияние атомов в молекул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реакционную способность вещества. С одной стороны, метильная групп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за счет +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ффекта – индуктивный эффект – нагнетание электронной плотности) повышает электронную плотность в бензольном кольце в положениях 2, 4 и 6 и облегчает замещение именно в этих положени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ругой стороны, под влиянием бензольного кольца метильная групп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толуоле становится более активной в реакциях окисления и радикального замещения по сравнению с метан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Толуол, в отличие от метана, окисляется в мягких условиях (обесцвечивает подкисленный раствор 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 нагревани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акции замещения в боковой цепи алкилбензолов.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гче, чем в алканах, протекают реакции радикального замещения 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оковой цеп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лкилбензол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объясняется тем, что на лимитирующей стадии легко (при невысокой энергии активации) образуются устойчивые промежуточные радикалы. Например, в случа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олуо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разуется радикал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ензи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•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н более стабилен, чем алкильные свободные радикалы (•С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•С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), т.к. его неспаренный электрон делокализован за счет взаимодействия с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электронной системой бензольного кольц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7:49:35Z</dcterms:created>
  <dc:creator>Андрей</dc:creator>
  <dc:description/>
  <dc:language>en-US</dc:language>
  <cp:lastModifiedBy>Андрей</cp:lastModifiedBy>
  <dcterms:modified xsi:type="dcterms:W3CDTF">2020-08-27T07:57:19Z</dcterms:modified>
  <cp:revision>5</cp:revision>
  <dc:subject/>
  <dc:title>Получение и свойства аренов</dc:title>
</cp:coreProperties>
</file>